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C571-FDD5-42B5-BFAF-A6586F258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7836-F640-41EB-B590-B3919D3C8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1596-2B6C-4A8A-AACB-C344BFA9F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CB49-7A39-4841-B67D-49B854939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c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83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84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9960" y="238716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&amp; water us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nutrient recyc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health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sequencing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flatoxin levels – through use of mulch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impact of herbicides  on the ecosystem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ownside  risk </a:t>
            </a:r>
            <a:r>
              <a:rPr b="0" lang="en-ZW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tur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maize &amp; legume varieties  ( 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ed CA – Animal drawn Ri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A -  Dibb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bean ino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-legume rotations/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d management strategies– herbicides and  soil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776160" y="14018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&amp; adaptation of  GAPs (maize/legume cr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oybean processing and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aize and legume variety diversification and enhancing see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079640"/>
            <a:ext cx="10972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caling out cont.…...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955880"/>
            <a:ext cx="109728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partnerships – with public extension  system and N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extension agents, healthy workers, technicians &amp; lead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sc &amp; 1 Ph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 on training on use of mechanised CA equipment (rippers, direct seeders, jab plan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use of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ublications   in peer reviewed jour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xtension services to improve adoption &amp; promote sustainable intensification practices  required (maize-legume intercropping,  maize-legume rotation, inoculation of legume seeds etc)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understanding of adoption &amp; dis-adoption  dynamics of sustainable intensification practices/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d for alternative  cover crops   in area where livestock is an important component of livelihood strategies (reduce crop-livestock compet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time and budget allocation on document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ood Agricultural Practices (G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Timely planting &amp; w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Inoculation of legumes ( soyb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Crop rotation/ associations (intercr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Soil cover ( mul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Application of recommended fertiliser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Pest and dise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5320" y="131868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852192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8952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5T09:00:30Z</dcterms:modified>
  <cp:revision>127</cp:revision>
  <dc:subject/>
  <dc:title>PowerPoint Presentation</dc:title>
</cp:coreProperties>
</file>